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D5493-5508-4E9C-B3DA-9E0324638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D6FC4-BEE5-42E7-89B5-36AD96A45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618C0-B148-47A5-8F23-54422D174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35B06-75CD-4A95-8999-CA9E22E38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BD069-D16C-4C62-86DC-9BFCD37FF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62063-E7EE-414D-9318-04CB2CA1D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82331-0892-4692-A3F0-72929B0C4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B4E96-7042-495D-8F09-EFE8E1B62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5E951-92EC-4506-8599-6D7109449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18057-ECAF-42BC-ADD2-3E86CC029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A519B-1C2D-4773-B27A-33E7FAB8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A54FC-C6E3-464D-875B-6CEF788FC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EC671-945E-4997-9AFD-016ABDA94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1D367-A4E3-472F-B2E1-C0F049BC7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C1513-58FD-4184-A50E-611174D95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3F417-F3DF-452B-B408-A9B0EEA51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923EC-DCF9-445B-97B0-74E58D460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476F5-79D0-4CCA-85A9-E35EC6231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F57DD-8CB5-4176-8006-660A97575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B686D-7E86-4F34-BDAB-940B531DA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F0AB0-7593-482F-BE15-42C24258D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76D55-425D-4F30-ABA5-66466BB1D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08E99-AB4A-4A54-93E3-60E8D074B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E68D6-D799-4B46-93A2-1BE18A85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4F97E-D384-44F6-B307-1E262E641D1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9525A-B50D-4DD8-BC47-CCF0A2CBD16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Uram, szent vagy, szent vagy,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e vagy az egyetlen,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Uram, szent vagy, szent vagy,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iéd dicséretem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Örökké Téged imádlak,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zerelmed ad erőt,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Közel Hozzád a trónod előtt,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ékét lel szívem, Uram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"/>
          <p:cNvSpPr/>
          <p:nvPr/>
        </p:nvSpPr>
        <p:spPr>
          <a:xfrm>
            <a:off x="8532720" y="260280"/>
            <a:ext cx="409680" cy="43200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9T15:33:10Z</dcterms:created>
  <dc:creator>Gyügyei Tamás</dc:creator>
  <dc:description/>
  <dc:language>en-US</dc:language>
  <cp:lastModifiedBy>Gyügyei Tamás</cp:lastModifiedBy>
  <dcterms:modified xsi:type="dcterms:W3CDTF">2005-02-19T15:58:11Z</dcterms:modified>
  <cp:revision>2</cp:revision>
  <dc:subject/>
  <dc:title>Uram, szent vagy, szent vagy, Te vagy az egyetlen,  Uram, szent vagy, szent vagy, Tiéd dicséretem!</dc:title>
</cp:coreProperties>
</file>